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8B4B-BAAE-4ECC-8B81-F06D773B6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186F-0FE5-4BB5-8269-AE9AEC3E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FABB-0DAD-4A4E-B1B6-8A1A6C6AF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C213-0BBD-41C6-960D-3E201740E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5EBD-B065-4065-99F5-3431FA5BF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2BB7-D779-4540-A7EB-227D335D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6B25-69DB-4C81-B065-8986596B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4F20-35D2-4844-B754-F013DDAB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A31D-FBF5-4791-8395-EBDE1AC0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8C8B-C8F1-4EE5-95B4-7CD746FE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7597-FA68-48EB-AF2D-CC0275A1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DD04-B01A-48A7-AFAF-57E6ECE8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3674-4BD6-4143-9144-F506BAB7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3F4F-3467-4CD1-AA70-548BEC28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3613-E40E-4B18-A115-D7814A07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F5A4-0BDA-4628-B3D5-951F311C5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8079-A125-40F5-8901-5E8C3A776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5B97-A953-4BE9-B53E-D36BBAF1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A747-02B8-46B0-BD41-A3832DD1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6D8E-5512-4D2D-AC50-38CCBB0C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9185-9AD6-4818-AD50-00D90FE0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1014-868C-49E3-ACC8-92861472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2813-8F8C-4119-854B-0F788D46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3CEC-F65D-47B9-9975-E4AB9CEB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924A-55EA-4666-A536-B3CBB0D2A30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8BA5-BB33-4AC8-985B-E3087E74693B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Extinction in the Modern Worl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Extinction of organisms has been happening for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Scientists have dated extinction of species back as far as 40 m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There are no known reasons for these extinctions, only theories such as asteroids crashing into earth and killing everything in its 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At one time earth was inhabited by over 500 million spe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4582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Over time, 90% of these have become extinct or have evolved into other spe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Climate change and habitat loss caused species to adapt or d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The rate at which extinction is occurring has risen dramatically over the past 2 dec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Humans have had the greatest impact on these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Climate change, over hunting/fishing, habitat loss, even simple mistakes such as adding a tropical fish to the hot springs in Alberta have caused species exti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04920" y="151920"/>
            <a:ext cx="861048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 u="sng">
                <a:solidFill>
                  <a:srgbClr val="ffffff"/>
                </a:solidFill>
                <a:uFillTx/>
                <a:latin typeface="Arial"/>
              </a:rPr>
              <a:t>Why should We Worry About Species Extinc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Removing 1 part of an ecosystem affects all other p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Its like removing a car part – the car no longer works proper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Ex. Overhunting of sea otters caused sea urchins to reproduce rapid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e sea urchins ate all available kel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Fish that relied on the kelp for food and shelter began to dec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y removing 1 organism, 2 more were also negatively aff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 u="sng">
                <a:solidFill>
                  <a:srgbClr val="ffffff"/>
                </a:solidFill>
                <a:uFillTx/>
                <a:latin typeface="Arial"/>
              </a:rPr>
              <a:t>What Can We 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Re-introduce species to areas they once li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Protect habit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Reduce pol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22:29:56Z</dcterms:created>
  <dc:creator>nbdoe</dc:creator>
  <dc:description/>
  <dc:language>en-US</dc:language>
  <cp:lastModifiedBy>Ward, Jeffrey    (ASD-W)</cp:lastModifiedBy>
  <dcterms:modified xsi:type="dcterms:W3CDTF">2012-12-03T15:28:13Z</dcterms:modified>
  <cp:revision>5</cp:revision>
  <dc:subject/>
  <dc:title>Extinction in the Modern World</dc:title>
</cp:coreProperties>
</file>